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22A-2585-411E-911D-1C8D11DF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BF5-C222-4FC7-84F7-E3BEB350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6EA-4A95-4914-85F4-057FF89D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E71-C636-4D3E-8000-9C5BC8B3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DB6-8DC5-4C97-AF39-7BA8A584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2A1-902A-40B6-8EB7-C5D35D35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1FF-F446-48D3-A389-66E6FC38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BB3-82CA-4FD1-A7CB-BFBC5775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617-767A-4050-A41D-763424E3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B893-059E-49F8-B9F6-6113D55E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B09-9B1B-4C7D-AA64-6934D143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23D-5665-45EB-9062-9DF9BCD2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CD25-E19E-4263-8191-F55173FFAF94}" type="slidenum"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– DL Support</a:t>
            </a:r>
            <a:endParaRPr b="1" lang="en-US" sz="48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560232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llan Ha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ML BenQ PHE AAL RD 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uesday, February 07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DL support project organization 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DL working area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Workareas/package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Risk’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9564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08600" y="166680"/>
            <a:ext cx="133956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08600" y="166680"/>
            <a:ext cx="133956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3988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252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252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3556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5160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5160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51600" y="1014480"/>
            <a:ext cx="123840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51600" y="1014480"/>
            <a:ext cx="123840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3340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08600" y="1604880"/>
            <a:ext cx="422244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8600" y="1604880"/>
            <a:ext cx="422244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46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08600" y="2333520"/>
            <a:ext cx="422244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08600" y="2352600"/>
            <a:ext cx="422244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1412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3068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3068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9040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487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DL Workareas/packag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1573200"/>
            <a:ext cx="87854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826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3-06 (B1)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A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3-HW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1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5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9/10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Risk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996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BMLaha</cp:lastModifiedBy>
  <dcterms:modified xsi:type="dcterms:W3CDTF">2006-02-07T17:05:42Z</dcterms:modified>
  <cp:revision>27</cp:revision>
  <dc:subject/>
  <dc:title>Jerry - DL</dc:title>
</cp:coreProperties>
</file>